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D700-61F9-4A82-8FF4-980413B5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0A05-40F8-4F34-B56E-F1998425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7620-A1BA-4094-8B7B-00D232FD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A6DB-768B-4256-9D3E-4E73EBAA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3F57-2ED3-4C03-A110-20B1298A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97E-5E05-4770-A45C-3AC5041F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F101-8F63-4694-A341-754811CA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324E-3C44-45E9-AE39-10BC0C4E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BD0B-642C-495F-9618-6B14B7BC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61C3-AF6A-49A7-84F6-BEFCD73A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C59C-3E64-4302-9803-2AAD0C6A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836E-AB5C-4873-8CDC-D561EF42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4919-A14D-441A-A8DA-0F2D8E375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nalc.org/view/15014-Franklin-s-X-ray-diffraction-explanation-of-X-ray-pattern-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dnaftb.org/dnaftb/19/concept/index.html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naftb.org/dnaftb/15/concept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18000" y="28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or prote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fred Hershey &amp; Martha Chase (19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acteria cells contained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but no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ulture medium (containing viral protein coats) contained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or prote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http://highered.mcgraw-hill.com/sites/0072437316/student_view0/chapter14/animation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76520" y="15588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ion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win Chargaff (194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solated DNA from different organisms and measured levels of each of the 4 nitrogenous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mts of adenine = amts of thy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mts of cytosine = amounts of guan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salind Franklin (1953)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stanford.edu/group/ccr/blog/2009/04/a_closer_look_1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d X-ray diffraction images of DNA that suggested its double helix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lc.org/view/15014-Franklin-s-X-ray-diffraction-explanation-of-X-ray-pattern-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648320" y="2120760"/>
            <a:ext cx="380988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Watson &amp; Francis Crick (19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used information from Chargaff and Franklin’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roposed a model of DNA with a double helix of 2 anti-parallel st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won the Nobel Prize in 1962 for deducing the structure of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dnaftb/19/concept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Watson &amp; Francis Crick (195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14600" y="2538360"/>
            <a:ext cx="355428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also 1.2 (pages 52-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giangleblog.wordpress.com/2011/05/02/edit-5-dna-structure-group-b/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mer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ucleot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carbon sugar (ribose or deoxy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ous bas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ate group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8320" y="2533680"/>
            <a:ext cx="38098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vs DNA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biology.lsu.edu/introbio/summer/Summer2004/1201/RF/Chapter%205%20review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046240" y="1981080"/>
            <a:ext cx="505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overy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drich Miescher (late 1860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collected used bandages at hospitals and immersed in salt solution (to release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kaline solution caused lysis of cells and nuclei to precipitate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d substance with high P content in the nuclei, called it “nuclei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dnaftb/15/concep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vs DNA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dedunn.edublogs.org/2011/06/08/structure-of-dna-and-rna/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773440" y="1981080"/>
            <a:ext cx="3597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&amp; RNA Directionality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phschool.com/science/biology_place/biocoach/transcription/chains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25680" y="1981080"/>
            <a:ext cx="429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Griffiths (1920s)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thefullwiki.org/Griffiths_experi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16080" y="1981080"/>
            <a:ext cx="491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achim Hämmerling (1930s)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seavegetables.com/handbook/genera/greens/Acetabularia/Acetabularia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 with single-celled alga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etabul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d that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ucle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organelle that contains hereditar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ämmerling Expts (1930s)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accessexcellence.org/RC/VL/GG/hammerling_s.ph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12960" y="1981080"/>
            <a:ext cx="371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ämmerling Expts (1930s)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biologie.uni-hamburg.de/b-online/e14/9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3809880" cy="1785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90920" y="4191120"/>
            <a:ext cx="3782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or protein?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textbookofbacteriology.net/phage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fred Hershey &amp; Martha Chase (19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s with virus:  bacteriophage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ophage infects bacteria cells by attaching itself and injecting its DNA into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2784600"/>
            <a:ext cx="380988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or prote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ophage cells infecting bacteria ce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36600" y="3200400"/>
            <a:ext cx="3030480" cy="2595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410080" y="3200400"/>
            <a:ext cx="208620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or prote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fred Hershey &amp; Martha Chase (19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oteins contain sulfur but not phosp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NA contains phosphorus but not sulf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Hershey &amp; Chase tagged viral proteins with radioisotope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and viral DNA with radioisotope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fter infection by labelled bacteriophages, bacteria cells were isolated from protein coats of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0:16:36Z</dcterms:created>
  <dc:creator>rubina khan</dc:creator>
  <dc:description/>
  <dc:language>en-US</dc:language>
  <cp:lastModifiedBy>rubina khan</cp:lastModifiedBy>
  <dcterms:modified xsi:type="dcterms:W3CDTF">2011-11-08T16:55:26Z</dcterms:modified>
  <cp:revision>60</cp:revision>
  <dc:subject/>
  <dc:title>Molecular Genetics</dc:title>
</cp:coreProperties>
</file>